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180-F4C4-4DD2-A6D2-84E042F2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7A9-DCD0-470B-828C-00990066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70A-1747-46E2-95FC-49C1512D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76D-85CB-4371-B9C4-793A41E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17CD-B4A9-4098-B3E6-31864E21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98E-61E7-4471-A4A7-1B9AB465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38F-46B8-4E9F-8BE7-B3D9F0D9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1187-280B-41E6-A8EC-2AF7F82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8ECB-DCCF-4806-B9FB-FB371A7A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A86-5CD1-42C6-B9CE-8A84B6D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309E-DC38-45B3-B941-626B0D1C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A70-7635-4CA0-9C63-8470046D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C9FF-EAC2-4417-9123-36847AA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0AE-CEEC-4906-BC73-EDBA40E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CAC4-E15F-4245-B03B-1B512D43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08A-499C-40CB-BDD1-E500A9D1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BEB5-4F2C-486A-8A2F-F193038C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47A-6D88-4B96-B479-E7C70E84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A4E-57DD-47FB-B8A9-373A789A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83F-22D1-4F46-81DA-7FFA3BA7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6FE-C2DD-42C1-B55C-4ECCFC1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8B8-1ACA-4EF9-A2E2-ADF6C6C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D7B-8671-403C-8E14-C7FB6751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13E-2E63-4AD0-9FF6-8270030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4182-97B3-4F82-995E-EC2693C5A78A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842-9D65-4776-AA26-42D02319AE6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renal 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a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1148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816280" cy="1770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00200" y="2209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lun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tion of the Adrenal gl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glands. One at the top of each kidne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si55550229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578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rmones and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pinephri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also called adrenalin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s the heart rate and force of heart con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axes organs not needed for immediate surviv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s conversion of glycogen to gluco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repinephrine (also called noradrenalin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soconstrictive effects, thus increasing blood pressur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ol Mechan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ated by the parasympathetic nervous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t should st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mics the nervous system, bu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sts lon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s less ener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2:32:28Z</dcterms:created>
  <dc:creator>dthomas</dc:creator>
  <dc:description/>
  <dc:language>en-US</dc:language>
  <cp:lastModifiedBy>dthomas</cp:lastModifiedBy>
  <dcterms:modified xsi:type="dcterms:W3CDTF">2007-03-19T14:04:31Z</dcterms:modified>
  <cp:revision>5</cp:revision>
  <dc:subject/>
  <dc:title>Adrenal Gland</dc:title>
</cp:coreProperties>
</file>